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C43-19E1-49AE-85B6-E6ED936A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EAEE-AD8F-4851-8A23-0CFE577E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F80-69EB-4F8C-BAD9-7749CA29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B27-C446-471A-A78E-91C23DF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98C-3853-4B1B-A926-FB992FC0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D09-7DFC-45D0-B400-BA107396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23F-1300-455D-80C0-BC8E5355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2CB-5B98-493C-A534-FC36DE0B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5F4-1F81-4EE2-BB5F-ED70F5BB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B61-6A17-43B2-A2F6-6A90EA1B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E2A-A68B-4144-ADDF-8B72B0EA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9A9-56A1-47EC-BCB9-6BD74FF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25B-8077-4E6E-9830-00AB1F4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FD0-6F6D-4F74-A44C-C9E58E0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C472-2E79-47FB-B9F4-82CD665F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10228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1022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7117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944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NYCDOE</cp:lastModifiedBy>
  <dcterms:modified xsi:type="dcterms:W3CDTF">2012-12-07T14:57:57Z</dcterms:modified>
  <cp:revision>109</cp:revision>
  <dc:subject/>
  <dc:title>Profile</dc:title>
</cp:coreProperties>
</file>